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AFC-E7B3-4BD7-B309-151FB6AB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8BC2-C3B4-44EC-920A-0F55DDD9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288-C614-4B40-9BA8-9CA86FA6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108-94AE-4B1D-B031-62969DF0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B6A-265B-40D9-BAAC-DC0AFE9F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87C-EB12-4F24-8466-19295CE7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5F9-F7FB-46FB-A3DC-ADFC21EB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A3D9-00CE-4CB1-BB8F-4B5C8439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2AD5-1C3E-4CFC-9E9F-4335B85F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E462-AF9B-4A98-9A13-8C72A2D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A3C-EF25-49A2-8930-49838D24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016-C94E-4906-B49A-5415AA1C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284C-0CB2-4400-9F9F-947064461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Nick Riewold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ff00"/>
                </a:solidFill>
                <a:latin typeface="Arial"/>
              </a:rPr>
              <a:t>A.F.L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is about St Ki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Y FAVORITE PLAYER IS STEPHEN MIL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2708280"/>
            <a:ext cx="446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00" y="393372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220500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Stephen Milne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2:07:16Z</dcterms:created>
  <dc:creator>Admin</dc:creator>
  <dc:description/>
  <dc:language>en-US</dc:language>
  <cp:lastModifiedBy>Admin</cp:lastModifiedBy>
  <dcterms:modified xsi:type="dcterms:W3CDTF">2009-03-19T02:16:13Z</dcterms:modified>
  <cp:revision>3</cp:revision>
  <dc:subject/>
  <dc:title>A.F.L.</dc:title>
</cp:coreProperties>
</file>